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E03-F52C-4AF1-9C62-E14ED722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E77-322D-4C63-9026-CAC2666B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91E-75F8-4B4C-AC51-06AEBDF1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A62-15C5-4E7B-A3CB-DFEFE092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4FA7-B720-45D5-B6E4-B02269A6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1FAD-5244-4B79-B38F-CE930EB1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F509-547F-4DAD-83E3-9549FDF1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51CD-139E-405D-94DB-273A25EF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BB5C-9871-4010-A48F-F9E5FF26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35D9-09D6-4BEF-B97E-1A8DA66D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546E-FA8F-4018-91FB-208F8655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B42-7A44-4D04-83D2-79A0EE42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9005-A4A8-4EFB-8BAA-D344E4A5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DA0C-5136-4780-86D4-980C0CC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1EDD-2413-4C47-A0D3-C7D7C68D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DF3C-757A-49BD-A74C-A1FB35A9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D9DA-0107-46AF-BCA2-E2C46344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DC58-0A14-4D0F-B720-A912DCA1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F8A4-A5ED-4AC4-8435-605CAD8D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E7D4-6F11-4EC8-A754-2DB001E9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59FF-76B1-40C7-B3D5-06C01288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7A7D-377C-405A-8255-999F043A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8D6-90DB-40AD-8DF9-52FCAC2E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2666-E9BA-4F2A-B0B6-05D5F80A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B618-96B9-4CFF-8A1C-63E00F5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4268-18CB-4B0D-908C-7A2A2DF8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B38D-4FF8-46CB-BA74-7CB2010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5E048-B022-4D9B-A50F-A0D882F5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6261-2B8C-40BE-A411-AECB7AC5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9576-BC57-4924-8744-4BC4CC48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5EA5-C1BB-486C-BD32-8C718449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F4CC-0ED4-47B9-9D26-AAF3475E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7F7E-980D-4363-A550-2FD05FC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3D6-8EBE-43C6-B6FD-D273EBCD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4BA2-DA7E-4AD4-9822-E15D84F1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086A-D122-417F-9B30-B44DC6D0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4FBF1-536F-43CC-8713-A88AEB55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9866-1633-4923-8818-56C543C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0DCCE-27D9-4E62-9DBC-936D45C1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8676B-DAF7-458C-A2DD-4AB4D2C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2536A-8F5A-43DF-A897-56F76883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1DBD-7976-4D03-A7E1-E1C2F8B1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44BC7-E759-48E4-9E94-C1ABBA51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AFA-511D-4755-82E8-8E72D708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33B-5840-4C7F-A106-2F7C0221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1C9-5BFA-4F67-AEF8-032A5D3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5A3-9977-436C-8F79-7D95458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330-AF3C-4759-B3A4-B980D79D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14B0-FAAC-4F46-B38B-5E46789BB6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61B7-5C8F-45A3-A1A2-2203027777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7EA8-43AA-4233-AFC3-54F32C413B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7BA9-6D79-44B9-984A-64DA90888E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资源 3"/>
          <p:cNvPicPr/>
          <p:nvPr/>
        </p:nvPicPr>
        <p:blipFill>
          <a:blip r:embed="rId1"/>
          <a:stretch/>
        </p:blipFill>
        <p:spPr>
          <a:xfrm>
            <a:off x="-25560" y="1946160"/>
            <a:ext cx="11133360" cy="296568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2"/>
          <p:cNvSpPr/>
          <p:nvPr/>
        </p:nvSpPr>
        <p:spPr>
          <a:xfrm>
            <a:off x="3875040" y="6429240"/>
            <a:ext cx="4417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bfbfbf"/>
                </a:solidFill>
                <a:latin typeface="Arial"/>
              </a:rPr>
              <a:t>ACEBOTT STEM Education Tech Co.,L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"/>
          <p:cNvSpPr/>
          <p:nvPr/>
        </p:nvSpPr>
        <p:spPr>
          <a:xfrm>
            <a:off x="768240" y="2492280"/>
            <a:ext cx="5383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ACEBOT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35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3" descr="资源 4"/>
          <p:cNvPicPr/>
          <p:nvPr/>
        </p:nvPicPr>
        <p:blipFill>
          <a:blip r:embed="rId1"/>
          <a:stretch/>
        </p:blipFill>
        <p:spPr>
          <a:xfrm>
            <a:off x="-25560" y="260280"/>
            <a:ext cx="4208760" cy="44604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" descr="资源 5"/>
          <p:cNvPicPr/>
          <p:nvPr/>
        </p:nvPicPr>
        <p:blipFill>
          <a:blip r:embed="rId2"/>
          <a:stretch/>
        </p:blipFill>
        <p:spPr>
          <a:xfrm>
            <a:off x="1492200" y="2060640"/>
            <a:ext cx="10699920" cy="284004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2"/>
          <p:cNvSpPr/>
          <p:nvPr/>
        </p:nvSpPr>
        <p:spPr>
          <a:xfrm>
            <a:off x="3875040" y="6429240"/>
            <a:ext cx="4417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bfbfbf"/>
                </a:solidFill>
                <a:latin typeface="Arial"/>
                <a:ea typeface="宋体"/>
              </a:rPr>
              <a:t>ACEBOTT STEM Education Tech Co.,L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"/>
          <p:cNvSpPr/>
          <p:nvPr/>
        </p:nvSpPr>
        <p:spPr>
          <a:xfrm>
            <a:off x="5330880" y="2508120"/>
            <a:ext cx="619452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33592"/>
                </a:solidFill>
                <a:latin typeface="Impac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4"/>
          <p:cNvSpPr/>
          <p:nvPr/>
        </p:nvSpPr>
        <p:spPr>
          <a:xfrm>
            <a:off x="120600" y="333360"/>
            <a:ext cx="317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duct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9640" y="2276280"/>
            <a:ext cx="9853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700" spc="-1" strike="noStrike">
                <a:solidFill>
                  <a:srgbClr val="000000"/>
                </a:solidFill>
                <a:latin typeface="Arial"/>
              </a:rPr>
              <a:t>4 DOF </a:t>
            </a: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6700" spc="-1" strike="noStrike">
                <a:solidFill>
                  <a:srgbClr val="000000"/>
                </a:solidFill>
                <a:latin typeface="Arial"/>
              </a:rPr>
              <a:t>obot</a:t>
            </a: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zh-CN" sz="6700" spc="-1" strike="noStrike">
                <a:solidFill>
                  <a:srgbClr val="000000"/>
                </a:solidFill>
                <a:latin typeface="Arial"/>
              </a:rPr>
              <a:t>rm </a:t>
            </a: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67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0" y="5229360"/>
            <a:ext cx="12192120" cy="1628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99" descr=""/>
          <p:cNvPicPr/>
          <p:nvPr/>
        </p:nvPicPr>
        <p:blipFill>
          <a:blip r:embed="rId1"/>
          <a:stretch/>
        </p:blipFill>
        <p:spPr>
          <a:xfrm>
            <a:off x="0" y="12600"/>
            <a:ext cx="1911240" cy="119556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8"/>
          <p:cNvSpPr/>
          <p:nvPr/>
        </p:nvSpPr>
        <p:spPr>
          <a:xfrm>
            <a:off x="622440" y="4724280"/>
            <a:ext cx="1144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ACEBOTT STEM Education Tech Co.,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2" descr="STEM图标光顺用"/>
          <p:cNvPicPr/>
          <p:nvPr/>
        </p:nvPicPr>
        <p:blipFill>
          <a:blip r:embed="rId2"/>
          <a:stretch/>
        </p:blipFill>
        <p:spPr>
          <a:xfrm>
            <a:off x="9983880" y="328680"/>
            <a:ext cx="178596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资源 4"/>
          <p:cNvPicPr/>
          <p:nvPr/>
        </p:nvPicPr>
        <p:blipFill>
          <a:blip r:embed="rId1"/>
          <a:stretch/>
        </p:blipFill>
        <p:spPr>
          <a:xfrm>
            <a:off x="-25560" y="260280"/>
            <a:ext cx="4208760" cy="4460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3"/>
          <p:cNvSpPr/>
          <p:nvPr/>
        </p:nvSpPr>
        <p:spPr>
          <a:xfrm>
            <a:off x="552600" y="1700280"/>
            <a:ext cx="5416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4296"/>
                </a:solidFill>
                <a:latin typeface="微软雅黑"/>
                <a:ea typeface="微软雅黑"/>
              </a:rPr>
              <a:t>4 DOF Robot Arm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Kit is a creative learning kit designed for begin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th this kit, you can have a good understanding of how a robot arm works, </a:t>
            </a:r>
            <a:r>
              <a:rPr b="1" lang="en-US" sz="1800" spc="-1" strike="noStrike">
                <a:solidFill>
                  <a:srgbClr val="144296"/>
                </a:solidFill>
                <a:latin typeface="微软雅黑"/>
                <a:ea typeface="微软雅黑"/>
              </a:rPr>
              <a:t>program its actions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and control it in a variety of ways to master the </a:t>
            </a:r>
            <a:r>
              <a:rPr b="1" lang="en-US" sz="1800" spc="-1" strike="noStrike">
                <a:solidFill>
                  <a:srgbClr val="144296"/>
                </a:solidFill>
                <a:latin typeface="微软雅黑"/>
                <a:ea typeface="微软雅黑"/>
              </a:rPr>
              <a:t>control of a multi-DOF robot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120600" y="333360"/>
            <a:ext cx="317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duct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"/>
          <p:cNvSpPr/>
          <p:nvPr/>
        </p:nvSpPr>
        <p:spPr>
          <a:xfrm>
            <a:off x="3875040" y="6429240"/>
            <a:ext cx="4417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bfbfbf"/>
                </a:solidFill>
                <a:latin typeface="Arial"/>
                <a:ea typeface="宋体"/>
              </a:rPr>
              <a:t>ACEBOTT STEM Education Tech Co.,L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1" descr="87EF86DC-B9D6-4b11-9582-F8712F081045"/>
          <p:cNvPicPr/>
          <p:nvPr/>
        </p:nvPicPr>
        <p:blipFill>
          <a:blip r:embed="rId2"/>
          <a:stretch/>
        </p:blipFill>
        <p:spPr>
          <a:xfrm>
            <a:off x="5808600" y="549360"/>
            <a:ext cx="6139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3" descr="资源 4"/>
          <p:cNvPicPr/>
          <p:nvPr/>
        </p:nvPicPr>
        <p:blipFill>
          <a:blip r:embed="rId1"/>
          <a:stretch/>
        </p:blipFill>
        <p:spPr>
          <a:xfrm>
            <a:off x="-25560" y="260280"/>
            <a:ext cx="4208760" cy="44604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1"/>
          <p:cNvSpPr/>
          <p:nvPr/>
        </p:nvSpPr>
        <p:spPr>
          <a:xfrm>
            <a:off x="406440" y="1346040"/>
            <a:ext cx="779616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earning Manipulators with Multiple D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emor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ree-Axi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oystick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eb /App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Learn ESP32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"/>
          <p:cNvSpPr/>
          <p:nvPr/>
        </p:nvSpPr>
        <p:spPr>
          <a:xfrm>
            <a:off x="120600" y="333360"/>
            <a:ext cx="317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value of starter k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"/>
          <p:cNvSpPr/>
          <p:nvPr/>
        </p:nvSpPr>
        <p:spPr>
          <a:xfrm>
            <a:off x="3875040" y="6429240"/>
            <a:ext cx="4417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bfbfbf"/>
                </a:solidFill>
                <a:latin typeface="Arial"/>
                <a:ea typeface="宋体"/>
              </a:rPr>
              <a:t>ACEBOTT STEM Education Tech Co.,L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资源 4"/>
          <p:cNvPicPr/>
          <p:nvPr/>
        </p:nvPicPr>
        <p:blipFill>
          <a:blip r:embed="rId1"/>
          <a:stretch/>
        </p:blipFill>
        <p:spPr>
          <a:xfrm>
            <a:off x="-25560" y="260280"/>
            <a:ext cx="4208760" cy="44604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2"/>
          <p:cNvSpPr/>
          <p:nvPr/>
        </p:nvSpPr>
        <p:spPr>
          <a:xfrm>
            <a:off x="120600" y="333360"/>
            <a:ext cx="317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mode of starter k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"/>
          <p:cNvSpPr/>
          <p:nvPr/>
        </p:nvSpPr>
        <p:spPr>
          <a:xfrm>
            <a:off x="3875040" y="6429240"/>
            <a:ext cx="4417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bfbfbf"/>
                </a:solidFill>
                <a:latin typeface="Arial"/>
                <a:ea typeface="宋体"/>
              </a:rPr>
              <a:t>ACEBOTT STEM Education Tech Co.,L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" descr=""/>
          <p:cNvPicPr/>
          <p:nvPr/>
        </p:nvPicPr>
        <p:blipFill>
          <a:blip r:embed="rId2"/>
          <a:stretch/>
        </p:blipFill>
        <p:spPr>
          <a:xfrm>
            <a:off x="47520" y="1555920"/>
            <a:ext cx="121222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3" descr="资源 4"/>
          <p:cNvPicPr/>
          <p:nvPr/>
        </p:nvPicPr>
        <p:blipFill>
          <a:blip r:embed="rId1"/>
          <a:stretch/>
        </p:blipFill>
        <p:spPr>
          <a:xfrm>
            <a:off x="-25560" y="260280"/>
            <a:ext cx="5299200" cy="4460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2"/>
          <p:cNvSpPr/>
          <p:nvPr/>
        </p:nvSpPr>
        <p:spPr>
          <a:xfrm>
            <a:off x="120600" y="333360"/>
            <a:ext cx="5081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roller board 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3875040" y="6429240"/>
            <a:ext cx="4417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bfbfbf"/>
                </a:solidFill>
                <a:latin typeface="Arial"/>
                <a:ea typeface="宋体"/>
              </a:rPr>
              <a:t>ACEBOTT STEM Education Tech Co.,L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" descr=""/>
          <p:cNvPicPr/>
          <p:nvPr/>
        </p:nvPicPr>
        <p:blipFill>
          <a:blip r:embed="rId2"/>
          <a:stretch/>
        </p:blipFill>
        <p:spPr>
          <a:xfrm>
            <a:off x="2855880" y="1754280"/>
            <a:ext cx="5372280" cy="290196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3"/>
          <p:cNvSpPr/>
          <p:nvPr/>
        </p:nvSpPr>
        <p:spPr>
          <a:xfrm>
            <a:off x="4584600" y="4869000"/>
            <a:ext cx="32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96"/>
                </a:solidFill>
                <a:latin typeface="微软雅黑"/>
                <a:ea typeface="微软雅黑"/>
              </a:rPr>
              <a:t>ESP32 Max V1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3" descr="资源 4"/>
          <p:cNvPicPr/>
          <p:nvPr/>
        </p:nvPicPr>
        <p:blipFill>
          <a:blip r:embed="rId1"/>
          <a:stretch/>
        </p:blipFill>
        <p:spPr>
          <a:xfrm>
            <a:off x="-25560" y="260280"/>
            <a:ext cx="4208760" cy="44604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4"/>
          <p:cNvSpPr/>
          <p:nvPr/>
        </p:nvSpPr>
        <p:spPr>
          <a:xfrm>
            <a:off x="120600" y="333360"/>
            <a:ext cx="317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ulti-platform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"/>
          <p:cNvSpPr/>
          <p:nvPr/>
        </p:nvSpPr>
        <p:spPr>
          <a:xfrm>
            <a:off x="2208240" y="4737240"/>
            <a:ext cx="2368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96"/>
                </a:solidFill>
                <a:latin typeface="微软雅黑"/>
                <a:ea typeface="微软雅黑"/>
              </a:rPr>
              <a:t>Arduino 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3"/>
          <p:cNvSpPr/>
          <p:nvPr/>
        </p:nvSpPr>
        <p:spPr>
          <a:xfrm>
            <a:off x="8261280" y="4724280"/>
            <a:ext cx="1006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4296"/>
                </a:solidFill>
                <a:latin typeface="微软雅黑"/>
                <a:ea typeface="微软雅黑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"/>
          <p:cNvSpPr/>
          <p:nvPr/>
        </p:nvSpPr>
        <p:spPr>
          <a:xfrm>
            <a:off x="3875040" y="6429240"/>
            <a:ext cx="4417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bfbfbf"/>
                </a:solidFill>
                <a:latin typeface="Arial"/>
                <a:ea typeface="宋体"/>
              </a:rPr>
              <a:t>ACEBOTT STEM Education Tech Co.,L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" descr=""/>
          <p:cNvPicPr/>
          <p:nvPr/>
        </p:nvPicPr>
        <p:blipFill>
          <a:blip r:embed="rId2"/>
          <a:stretch/>
        </p:blipFill>
        <p:spPr>
          <a:xfrm>
            <a:off x="695160" y="1835280"/>
            <a:ext cx="4894560" cy="258588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" descr="QD022界面"/>
          <p:cNvPicPr/>
          <p:nvPr/>
        </p:nvPicPr>
        <p:blipFill>
          <a:blip r:embed="rId3"/>
          <a:stretch/>
        </p:blipFill>
        <p:spPr>
          <a:xfrm>
            <a:off x="6527880" y="1835280"/>
            <a:ext cx="46004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3" descr="资源 4"/>
          <p:cNvPicPr/>
          <p:nvPr/>
        </p:nvPicPr>
        <p:blipFill>
          <a:blip r:embed="rId1"/>
          <a:stretch/>
        </p:blipFill>
        <p:spPr>
          <a:xfrm>
            <a:off x="-25560" y="260280"/>
            <a:ext cx="4208760" cy="44604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4"/>
          <p:cNvSpPr/>
          <p:nvPr/>
        </p:nvSpPr>
        <p:spPr>
          <a:xfrm>
            <a:off x="120600" y="333360"/>
            <a:ext cx="317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urse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8"/>
          <p:cNvSpPr/>
          <p:nvPr/>
        </p:nvSpPr>
        <p:spPr>
          <a:xfrm>
            <a:off x="411120" y="765000"/>
            <a:ext cx="78818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3592"/>
                </a:solidFill>
                <a:latin typeface="Arial"/>
                <a:ea typeface="宋体"/>
              </a:rPr>
              <a:t>The type of course</a:t>
            </a:r>
            <a:r>
              <a:rPr b="1" lang="zh-CN" sz="2400" spc="-1" strike="noStrike">
                <a:solidFill>
                  <a:srgbClr val="033592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33592"/>
                </a:solidFill>
                <a:latin typeface="Arial"/>
                <a:ea typeface="宋体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3592"/>
                </a:solidFill>
                <a:latin typeface="Arial"/>
                <a:ea typeface="宋体"/>
              </a:rPr>
              <a:t>Suitable for age</a:t>
            </a:r>
            <a:r>
              <a:rPr b="1" lang="zh-CN" sz="2400" spc="-1" strike="noStrike">
                <a:solidFill>
                  <a:srgbClr val="033592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33592"/>
                </a:solidFill>
                <a:latin typeface="Arial"/>
                <a:ea typeface="宋体"/>
              </a:rPr>
              <a:t>8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"/>
          <p:cNvSpPr/>
          <p:nvPr/>
        </p:nvSpPr>
        <p:spPr>
          <a:xfrm>
            <a:off x="3875040" y="6429240"/>
            <a:ext cx="4417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bfbfbf"/>
                </a:solidFill>
                <a:latin typeface="Arial"/>
                <a:ea typeface="宋体"/>
              </a:rPr>
              <a:t>ACEBOTT STEM Education Tech Co.,L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71880" y="1700280"/>
          <a:ext cx="5891040" cy="4456080"/>
        </p:xfrm>
        <a:graphic>
          <a:graphicData uri="http://schemas.openxmlformats.org/drawingml/2006/table">
            <a:tbl>
              <a:tblPr/>
              <a:tblGrid>
                <a:gridCol w="1177920"/>
                <a:gridCol w="4713120"/>
              </a:tblGrid>
              <a:tr h="425520">
                <a:tc gridSpan="2"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DOF Robot Arm K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33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rial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ojec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4136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28800" rIns="28800" tIns="19440" bIns="19440" anchor="ctr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oftware installation and hardware understa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28800" rIns="28800" tIns="19440" bIns="19440" anchor="ctr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ssembly Robot A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28800" rIns="28800" tIns="19440" bIns="19440" anchor="ctr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The joystick controls the Robot A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28800" rIns="28800" tIns="19440" bIns="19440" anchor="ctr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patial positioning of Robot A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28800" rIns="28800" tIns="19440" bIns="19440" anchor="ctr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Palletizing function of Robot A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28800" rIns="28800" tIns="19440" bIns="19440" anchor="ctr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Teaching and learning of Robot A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28800" rIns="28800" tIns="19440" bIns="19440" anchor="ctr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Web control of Robot A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12600" rIns="12600" tIns="12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28800" rIns="28800" tIns="19440" bIns="19440" anchor="ctr">
                      <a:noAutofit/>
                    </a:bodyPr>
                    <a:p>
                      <a:pPr marL="28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PP control of Robot Ar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800" marR="288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3" descr="资源 4"/>
          <p:cNvPicPr/>
          <p:nvPr/>
        </p:nvPicPr>
        <p:blipFill>
          <a:blip r:embed="rId1"/>
          <a:stretch/>
        </p:blipFill>
        <p:spPr>
          <a:xfrm>
            <a:off x="-25560" y="260280"/>
            <a:ext cx="4208760" cy="44604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2"/>
          <p:cNvSpPr/>
          <p:nvPr/>
        </p:nvSpPr>
        <p:spPr>
          <a:xfrm>
            <a:off x="120600" y="333360"/>
            <a:ext cx="317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"/>
          <p:cNvSpPr/>
          <p:nvPr/>
        </p:nvSpPr>
        <p:spPr>
          <a:xfrm>
            <a:off x="3875040" y="6429240"/>
            <a:ext cx="44179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bfbfbf"/>
                </a:solidFill>
                <a:latin typeface="Arial"/>
                <a:ea typeface="宋体"/>
              </a:rPr>
              <a:t>ACEBOTT STEM Education Tech Co.,Lt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1" descr="QD022-清单页"/>
          <p:cNvPicPr/>
          <p:nvPr/>
        </p:nvPicPr>
        <p:blipFill>
          <a:blip r:embed="rId2"/>
          <a:stretch/>
        </p:blipFill>
        <p:spPr>
          <a:xfrm>
            <a:off x="831960" y="981000"/>
            <a:ext cx="10505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4T02:23:05Z</dcterms:created>
  <dc:creator>Administrator</dc:creator>
  <dc:description/>
  <dc:language>en-US</dc:language>
  <cp:lastModifiedBy>찬동</cp:lastModifiedBy>
  <dcterms:modified xsi:type="dcterms:W3CDTF">2024-06-20T08:30:56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5A296E617E244AABB07E346CDA615EC5_12</vt:lpwstr>
  </property>
  <property fmtid="{D5CDD505-2E9C-101B-9397-08002B2CF9AE}" pid="3" name="KSOProductBuildVer">
    <vt:lpwstr>2052-12.1.0.17133</vt:lpwstr>
  </property>
</Properties>
</file>